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511-A851-4C0D-95A3-369400A9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AEB-B3EA-471E-BDD3-39CB64E7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DE6-E4C3-4CFF-A0EB-AB4C3543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37B-CE53-489C-A14B-83454EE1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63BE-123F-4663-B3BD-049D88B6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BD8-B2E5-4F37-8E2A-029027B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DC17-495A-4C30-B7CE-8E2C0196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668C-255D-4A5F-BE0B-04137F0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23AC-4C5C-4776-B552-EF318375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4D99-4D48-4B1D-8719-A90747E7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B2D4-3BBF-4973-ABA7-C4A7B75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67E-E2EA-44C0-9474-0E93C651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4E6D-5A45-4609-9A18-7156C6B0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1B8B-54C8-46AF-9330-C92BA0C9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0391-8029-4011-8451-14423F45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A158-6C57-4CB1-A802-7169F232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1687-F5F6-47A2-AB7E-A22022A5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5BD-E8C2-4BC4-80DA-7A7FD5D2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C94-FE41-4BDC-BCA4-0B954B32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93E-887F-4A6A-A75F-C840515B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A73-8800-492B-B870-5EA56420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9EA-618B-44C7-B31F-CDC6519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076-F539-4A0A-80C6-C996316A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E39-C437-4F19-80F9-3AA0F953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F1FC-001E-4510-A36E-0FC44F362021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08DF-A7FF-4E55-B134-EAE4EC6E3F6C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ending Laptops to Depot 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310824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2204"/>
                </a:solidFill>
                <a:latin typeface="Arial"/>
              </a:rPr>
              <a:t>iSqua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2204"/>
                </a:solidFill>
                <a:latin typeface="Arial"/>
              </a:rPr>
              <a:t>Customer Servic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were some good examples of efficient troubleshooting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some ways that the iSquader can remind themselves of the time restriction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es the iSquader know if it’s ok to send the equipment to the depot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heet to record observations – guiding questions time each other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scribe issue and steps taken to resol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pot or continue workin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fine Depo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Depo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: Central location, within the school, for all equipment and technological issues to be addressed by a depot manag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the best way to approach a technological issue that arises during instruction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address these issues with minimal disruption by sending them to the depot within reasonable time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e as efficient as possible when resolving a computer erro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inimize disruption to the class and yourself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nd laptop to the depo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long should I spend working on a laptop during clas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o not allow yourself to fall behind with your student responsibiliti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uthor’s recommendation is 5 minutes before forwarding to the depo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 scenarios of common day-to-day issu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termine which would go to the depot and which can be resolved within the time restriction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ategorize your scenarios by issues that will be resolved by depot and iSquad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are some issues that you’ve resolved during class?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You will have 20-30 minutes to demonstrate to each other the various scenarios that represent  the technological disruptions occurring in your classroom on a usual basis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eam members should alternate being the iSquader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Be mindful of the time being expended on each reques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1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Choose the iSquader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2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r will make a request to resolve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a specific issu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3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iSquader will troubleshoot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4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ithin 5 minutes equipment is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handed back to the user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5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r continues working or heads to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he depo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6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Record your observation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7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witch roles (repeat as time allow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2-26T00:45:52Z</dcterms:modified>
  <cp:revision>5</cp:revision>
  <dc:subject/>
  <dc:title>Workshop Title</dc:title>
</cp:coreProperties>
</file>